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9E8-C1A4-4958-8A65-0EDE15E7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D57-A324-494B-9F3C-B42ACCA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467-3D8D-4DF6-A845-6F285523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AE6-4AD1-465D-BE37-9F589F6B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B84-E81A-4B6E-A935-6389E46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A26-B99B-4431-942D-2C4484A4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C6E-1F8A-4D6E-A183-80337D8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452-7BE4-4F78-8A63-D0A9D35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D02-4D15-4EF1-A542-7F7A737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A0F-F5AB-44A5-BE81-B583D10F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F93-91F9-4241-B8AD-2DC58619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985-36FD-4693-9777-CC3E280F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8D3A-2FA3-43E3-BF71-0AAB51CC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Testing the satisfiability of a formula by computing a stable set of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56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s with a Common Specification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irst definitio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81636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52908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0320" y="121752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16480" y="119844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5400" y="4076640"/>
            <a:ext cx="2854800" cy="1845360"/>
            <a:chOff x="275400" y="4076640"/>
            <a:chExt cx="2854800" cy="1845360"/>
          </a:xfrm>
        </p:grpSpPr>
        <p:sp>
          <p:nvSpPr>
            <p:cNvPr id="158" name=""/>
            <p:cNvSpPr/>
            <p:nvPr/>
          </p:nvSpPr>
          <p:spPr>
            <a:xfrm>
              <a:off x="1043280" y="4868640"/>
              <a:ext cx="502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35280" y="4868640"/>
              <a:ext cx="57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4920" y="4292280"/>
              <a:ext cx="503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258920" y="465264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465264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26920" y="522900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8920" y="522900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3640" y="5229000"/>
              <a:ext cx="28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90920" y="522900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360" y="522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6920" y="522900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200" y="4076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400" y="486864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69240" y="486864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8880" y="429228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540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868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032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4232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576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780000" y="4076640"/>
            <a:ext cx="496872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on specification (C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a 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ulti-valued gates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ust different implem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ve are two different implementations of g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n the lef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6093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ulti-valued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pecification and Implement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8520" y="1628640"/>
          <a:ext cx="3052800" cy="33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8520" y="1628640"/>
                    <a:ext cx="305280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458360" y="5670720"/>
            <a:ext cx="151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6200000">
            <a:off x="3551040" y="56322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7720" y="5746680"/>
            <a:ext cx="251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1506600"/>
            <a:ext cx="2303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“coding variab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43320" y="6165720"/>
            <a:ext cx="34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Y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Z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nco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46400" y="2298600"/>
            <a:ext cx="952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1268280"/>
          <a:ext cx="4002120" cy="360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268280"/>
                    <a:ext cx="400212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s with a Common Specification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another  definition equivalent to first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81636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5290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0320" y="128916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16480" y="127008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75400" y="4286160"/>
            <a:ext cx="2854800" cy="1845360"/>
            <a:chOff x="275400" y="4286160"/>
            <a:chExt cx="2854800" cy="1845360"/>
          </a:xfrm>
        </p:grpSpPr>
        <p:sp>
          <p:nvSpPr>
            <p:cNvPr id="197" name=""/>
            <p:cNvSpPr/>
            <p:nvPr/>
          </p:nvSpPr>
          <p:spPr>
            <a:xfrm>
              <a:off x="1043280" y="5078160"/>
              <a:ext cx="502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5280" y="5078160"/>
              <a:ext cx="57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4920" y="4501800"/>
              <a:ext cx="503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258920" y="48621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35280" y="486216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26920" y="543852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58920" y="54385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640" y="5438520"/>
              <a:ext cx="28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690920" y="54385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24360" y="5438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66920" y="543852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2200" y="4286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3880" y="507816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76080" y="507816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5720" y="450180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540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68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032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4232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7576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419640" y="4292640"/>
            <a:ext cx="511308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 CS 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nnected “in the same way” (i.e. they have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ame communication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2,3 a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ggl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602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nication graph (acycl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oggle Equivalenc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225440"/>
            <a:ext cx="73152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output circuit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oggle equivale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8760" y="3578400"/>
            <a:ext cx="0" cy="54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90640" y="358920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3920" y="368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560" y="40831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36280" y="4076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5520" y="2981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1840" y="243036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17560" y="243036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2080" y="2443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200" y="23796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4440" y="2370240"/>
            <a:ext cx="45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29160" y="3660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660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7840" y="381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90400" y="4111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5800" y="4111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08000" y="29988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00440" y="243828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72120" y="243828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9120" y="23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11560" y="235908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9720" y="2349360"/>
            <a:ext cx="3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5280" y="2790720"/>
            <a:ext cx="2015280" cy="792000"/>
            <a:chOff x="395280" y="2790720"/>
            <a:chExt cx="2015280" cy="792000"/>
          </a:xfrm>
        </p:grpSpPr>
        <p:sp>
          <p:nvSpPr>
            <p:cNvPr id="246" name=""/>
            <p:cNvSpPr/>
            <p:nvPr/>
          </p:nvSpPr>
          <p:spPr>
            <a:xfrm flipH="1">
              <a:off x="395280" y="2790720"/>
              <a:ext cx="64656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280" y="3582720"/>
              <a:ext cx="1941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1120" y="2790720"/>
              <a:ext cx="55944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41840" y="2790720"/>
              <a:ext cx="80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843280" y="2854440"/>
            <a:ext cx="2159640" cy="791640"/>
            <a:chOff x="2843280" y="2854440"/>
            <a:chExt cx="2159640" cy="791640"/>
          </a:xfrm>
        </p:grpSpPr>
        <p:sp>
          <p:nvSpPr>
            <p:cNvPr id="251" name=""/>
            <p:cNvSpPr/>
            <p:nvPr/>
          </p:nvSpPr>
          <p:spPr>
            <a:xfrm flipH="1">
              <a:off x="2843280" y="2854440"/>
              <a:ext cx="692640" cy="79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43280" y="3646080"/>
              <a:ext cx="2080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03520" y="2854440"/>
              <a:ext cx="599400" cy="79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5920" y="2854440"/>
              <a:ext cx="8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796000" y="2637000"/>
            <a:ext cx="3024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ggle equivalent, then there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e-to-one m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outputs assign-me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4941720"/>
            <a:ext cx="54723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120" y="5511960"/>
            <a:ext cx="779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ggle equivalent and have only one output, they a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ither functionally equivalent or comp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ketch of Proo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5877000"/>
            <a:ext cx="237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space parti-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240" y="4357800"/>
            <a:ext cx="1800000" cy="13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560" y="4365720"/>
            <a:ext cx="102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*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*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266400" y="4724280"/>
            <a:ext cx="191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6000" y="5222880"/>
            <a:ext cx="19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960" y="4724280"/>
            <a:ext cx="1097280" cy="64944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0" y="0"/>
                </a:moveTo>
                <a:cubicBezTo>
                  <a:pt x="300" y="12"/>
                  <a:pt x="600" y="24"/>
                  <a:pt x="672" y="96"/>
                </a:cubicBezTo>
                <a:cubicBezTo>
                  <a:pt x="744" y="168"/>
                  <a:pt x="544" y="384"/>
                  <a:pt x="432" y="432"/>
                </a:cubicBezTo>
                <a:cubicBezTo>
                  <a:pt x="320" y="480"/>
                  <a:pt x="160" y="43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8520" y="5013360"/>
            <a:ext cx="576360" cy="504720"/>
          </a:xfrm>
          <a:custGeom>
            <a:avLst/>
            <a:gdLst/>
            <a:ahLst/>
            <a:rect l="l" t="t" r="r" b="b"/>
            <a:pathLst>
              <a:path w="336" h="344">
                <a:moveTo>
                  <a:pt x="0" y="8"/>
                </a:moveTo>
                <a:cubicBezTo>
                  <a:pt x="120" y="4"/>
                  <a:pt x="240" y="0"/>
                  <a:pt x="288" y="56"/>
                </a:cubicBezTo>
                <a:cubicBezTo>
                  <a:pt x="336" y="112"/>
                  <a:pt x="312" y="228"/>
                  <a:pt x="288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0320" y="4437000"/>
            <a:ext cx="287280" cy="4078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0" y="288"/>
                </a:moveTo>
                <a:cubicBezTo>
                  <a:pt x="60" y="264"/>
                  <a:pt x="120" y="240"/>
                  <a:pt x="144" y="192"/>
                </a:cubicBezTo>
                <a:cubicBezTo>
                  <a:pt x="168" y="144"/>
                  <a:pt x="156" y="72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70160" y="4359240"/>
            <a:ext cx="1800360" cy="13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02080" y="4367160"/>
            <a:ext cx="98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*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*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6120" y="4726080"/>
            <a:ext cx="187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8520" y="5224320"/>
            <a:ext cx="193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3240" y="4726080"/>
            <a:ext cx="1096920" cy="64908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0" y="0"/>
                </a:moveTo>
                <a:cubicBezTo>
                  <a:pt x="300" y="12"/>
                  <a:pt x="600" y="24"/>
                  <a:pt x="672" y="96"/>
                </a:cubicBezTo>
                <a:cubicBezTo>
                  <a:pt x="744" y="168"/>
                  <a:pt x="544" y="384"/>
                  <a:pt x="432" y="432"/>
                </a:cubicBezTo>
                <a:cubicBezTo>
                  <a:pt x="320" y="480"/>
                  <a:pt x="160" y="43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5014800"/>
            <a:ext cx="576000" cy="505080"/>
          </a:xfrm>
          <a:custGeom>
            <a:avLst/>
            <a:gdLst/>
            <a:ahLst/>
            <a:rect l="l" t="t" r="r" b="b"/>
            <a:pathLst>
              <a:path w="336" h="344">
                <a:moveTo>
                  <a:pt x="0" y="8"/>
                </a:moveTo>
                <a:cubicBezTo>
                  <a:pt x="120" y="4"/>
                  <a:pt x="240" y="0"/>
                  <a:pt x="288" y="56"/>
                </a:cubicBezTo>
                <a:cubicBezTo>
                  <a:pt x="336" y="112"/>
                  <a:pt x="312" y="228"/>
                  <a:pt x="288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1240" y="4438800"/>
            <a:ext cx="287280" cy="4078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0" y="288"/>
                </a:moveTo>
                <a:cubicBezTo>
                  <a:pt x="60" y="264"/>
                  <a:pt x="120" y="240"/>
                  <a:pt x="144" y="192"/>
                </a:cubicBezTo>
                <a:cubicBezTo>
                  <a:pt x="168" y="144"/>
                  <a:pt x="156" y="72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8480" y="24591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246852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3160" y="259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9320" y="2898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28320" y="2924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560" y="19861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1040" y="145728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1520" y="145728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6680" y="1363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4560" y="14130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24440" y="14050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95760" y="2600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06600" y="2600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93960" y="2786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600" y="3005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9400" y="3032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06920" y="2071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6520" y="15350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55840" y="15350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9396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95080" y="14889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26040" y="14810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4000" y="1771560"/>
            <a:ext cx="1443600" cy="690120"/>
            <a:chOff x="324000" y="1771560"/>
            <a:chExt cx="1443600" cy="690120"/>
          </a:xfrm>
        </p:grpSpPr>
        <p:sp>
          <p:nvSpPr>
            <p:cNvPr id="297" name=""/>
            <p:cNvSpPr/>
            <p:nvPr/>
          </p:nvSpPr>
          <p:spPr>
            <a:xfrm flipH="1">
              <a:off x="324000" y="1771560"/>
              <a:ext cx="462960" cy="69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4000" y="246168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6920" y="1771560"/>
              <a:ext cx="400680" cy="69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6960" y="177156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31640" y="1897200"/>
            <a:ext cx="1547640" cy="691560"/>
            <a:chOff x="2231640" y="1897200"/>
            <a:chExt cx="1547640" cy="691560"/>
          </a:xfrm>
        </p:grpSpPr>
        <p:sp>
          <p:nvSpPr>
            <p:cNvPr id="302" name=""/>
            <p:cNvSpPr/>
            <p:nvPr/>
          </p:nvSpPr>
          <p:spPr>
            <a:xfrm flipH="1">
              <a:off x="2231640" y="1897200"/>
              <a:ext cx="496440" cy="69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32000" y="2588760"/>
              <a:ext cx="149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49800" y="1897200"/>
              <a:ext cx="429480" cy="69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28440" y="1897200"/>
              <a:ext cx="62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5880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341360"/>
            <a:ext cx="41641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 the partition of the set of input assignme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subsets fo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the same output ass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same partition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3429000"/>
            <a:ext cx="4197240" cy="28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and 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re toggle equivalent, then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have to be identic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re are two points (i.e. input assignments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in the same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two different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vice versa. So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ggles 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or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inding Output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0800" y="2448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50800" y="2457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320" y="25797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1120" y="28494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5920" y="2871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7400" y="20210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4160" y="1536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87440" y="1536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32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840" y="14954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2560" y="1487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2280" y="250524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5000" y="250524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39920" y="254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12600" y="2852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69760" y="2852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90960" y="2027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92400" y="153360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4520" y="153360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332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200" y="14922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6920" y="14842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50920" y="1822320"/>
            <a:ext cx="1732680" cy="630000"/>
            <a:chOff x="250920" y="1822320"/>
            <a:chExt cx="1732680" cy="630000"/>
          </a:xfrm>
        </p:grpSpPr>
        <p:sp>
          <p:nvSpPr>
            <p:cNvPr id="333" name=""/>
            <p:cNvSpPr/>
            <p:nvPr/>
          </p:nvSpPr>
          <p:spPr>
            <a:xfrm flipH="1">
              <a:off x="250920" y="1822320"/>
              <a:ext cx="55584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920" y="2452320"/>
              <a:ext cx="166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2640" y="1822320"/>
              <a:ext cx="48096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6760" y="1822320"/>
              <a:ext cx="695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55840" y="1863720"/>
            <a:ext cx="1856520" cy="630000"/>
            <a:chOff x="2355840" y="1863720"/>
            <a:chExt cx="1856520" cy="630000"/>
          </a:xfrm>
        </p:grpSpPr>
        <p:sp>
          <p:nvSpPr>
            <p:cNvPr id="338" name=""/>
            <p:cNvSpPr/>
            <p:nvPr/>
          </p:nvSpPr>
          <p:spPr>
            <a:xfrm flipH="1">
              <a:off x="2355840" y="1863720"/>
              <a:ext cx="59544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55840" y="2493720"/>
              <a:ext cx="178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7200" y="1863720"/>
              <a:ext cx="51516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51280" y="1863720"/>
              <a:ext cx="745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003640" y="1603440"/>
            <a:ext cx="3889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03640" y="2924280"/>
            <a:ext cx="3888000" cy="386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function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Here sa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CNF formula spec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obtain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existential quantification of the variab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 iff there is an input vect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3933720"/>
            <a:ext cx="4103640" cy="20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presented as a CNF formula. Then  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ing the relation of outpu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obtain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resolving out all the variab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ijective Function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1576440"/>
            <a:ext cx="8207280" cy="22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ets of  Boolean variabl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Boolean funct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ijective function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ff  there is  a subset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|X|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|Y|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pecifies a bijective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Namely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 if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3933720"/>
            <a:ext cx="8207280" cy="23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bijective function relation need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SAT che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nsatisfiable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bijective function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oggle Equivalence of Circuits with Different Inpu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720" y="278928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20920" y="27986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66520" y="28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0320" y="32148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28040" y="3238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80560" y="2286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36720" y="182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66920" y="182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20880" y="176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6560" y="177804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13720" y="1770120"/>
            <a:ext cx="45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0200" y="280656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94000" y="280656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9320" y="293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3480" y="319716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93920" y="32180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61560" y="22478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22400" y="17748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41800" y="17748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1880" y="17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09840" y="17082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65280" y="1700280"/>
            <a:ext cx="3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94920" y="2124000"/>
            <a:ext cx="1480680" cy="668160"/>
            <a:chOff x="394920" y="2124000"/>
            <a:chExt cx="1480680" cy="668160"/>
          </a:xfrm>
        </p:grpSpPr>
        <p:sp>
          <p:nvSpPr>
            <p:cNvPr id="372" name=""/>
            <p:cNvSpPr/>
            <p:nvPr/>
          </p:nvSpPr>
          <p:spPr>
            <a:xfrm flipH="1">
              <a:off x="394920" y="2124000"/>
              <a:ext cx="474840" cy="66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5280" y="2792160"/>
              <a:ext cx="1426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64840" y="2124000"/>
              <a:ext cx="410760" cy="66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0120" y="212400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192400" y="2125800"/>
            <a:ext cx="1586880" cy="667800"/>
            <a:chOff x="2192400" y="2125800"/>
            <a:chExt cx="1586880" cy="667800"/>
          </a:xfrm>
        </p:grpSpPr>
        <p:sp>
          <p:nvSpPr>
            <p:cNvPr id="377" name=""/>
            <p:cNvSpPr/>
            <p:nvPr/>
          </p:nvSpPr>
          <p:spPr>
            <a:xfrm flipH="1">
              <a:off x="2192400" y="2125800"/>
              <a:ext cx="509040" cy="66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2400" y="2793600"/>
              <a:ext cx="152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9000" y="2125800"/>
              <a:ext cx="440280" cy="66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01440" y="2125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788000" y="1792440"/>
            <a:ext cx="40320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different input variables that are related by a bijective function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bijectiv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4437000"/>
            <a:ext cx="77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ly pairs of input vector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for which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=1 are “legal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one can extend definition of toggle equival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5373720"/>
            <a:ext cx="77770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output circuit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oggle equivale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r any pair of vector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is true tha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02560" y="38368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111600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32000" y="3573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 Example of EC of Circuits with a known C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16240" y="2992320"/>
            <a:ext cx="965160" cy="471600"/>
            <a:chOff x="2316240" y="2992320"/>
            <a:chExt cx="965160" cy="471600"/>
          </a:xfrm>
        </p:grpSpPr>
        <p:sp>
          <p:nvSpPr>
            <p:cNvPr id="392" name=""/>
            <p:cNvSpPr/>
            <p:nvPr/>
          </p:nvSpPr>
          <p:spPr>
            <a:xfrm flipH="1">
              <a:off x="231624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5992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6240" y="346392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7360" y="299232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1834920" y="18511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1851120"/>
            <a:ext cx="158400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487680" y="2992320"/>
            <a:ext cx="965160" cy="471600"/>
            <a:chOff x="3487680" y="2992320"/>
            <a:chExt cx="965160" cy="471600"/>
          </a:xfrm>
        </p:grpSpPr>
        <p:sp>
          <p:nvSpPr>
            <p:cNvPr id="399" name=""/>
            <p:cNvSpPr/>
            <p:nvPr/>
          </p:nvSpPr>
          <p:spPr>
            <a:xfrm flipH="1">
              <a:off x="348768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136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87680" y="346392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8800" y="299232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936520" y="2205000"/>
            <a:ext cx="964080" cy="471600"/>
            <a:chOff x="2936520" y="2205000"/>
            <a:chExt cx="964080" cy="471600"/>
          </a:xfrm>
        </p:grpSpPr>
        <p:sp>
          <p:nvSpPr>
            <p:cNvPr id="404" name=""/>
            <p:cNvSpPr/>
            <p:nvPr/>
          </p:nvSpPr>
          <p:spPr>
            <a:xfrm flipH="1">
              <a:off x="2936520" y="2205000"/>
              <a:ext cx="32076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79480" y="2205000"/>
              <a:ext cx="32076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36880" y="26766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57640" y="22050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835280" y="3543480"/>
            <a:ext cx="31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4316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5412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2592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1496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5035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55880" y="35035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730600" y="2676240"/>
            <a:ext cx="27612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868480" y="2676240"/>
            <a:ext cx="27468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693960" y="2676240"/>
            <a:ext cx="20664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763800" y="2676240"/>
            <a:ext cx="20664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3831840" y="2676240"/>
            <a:ext cx="20628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419640" y="1536840"/>
            <a:ext cx="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8328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9756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4960" y="2284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773680" y="2963880"/>
            <a:ext cx="965160" cy="471600"/>
            <a:chOff x="5773680" y="2963880"/>
            <a:chExt cx="965160" cy="471600"/>
          </a:xfrm>
        </p:grpSpPr>
        <p:sp>
          <p:nvSpPr>
            <p:cNvPr id="425" name=""/>
            <p:cNvSpPr/>
            <p:nvPr/>
          </p:nvSpPr>
          <p:spPr>
            <a:xfrm flipH="1">
              <a:off x="577368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1736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73680" y="34354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4800" y="296388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>
            <a:off x="5292360" y="18223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77080" y="18223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45480" y="2963880"/>
            <a:ext cx="965160" cy="471600"/>
            <a:chOff x="6945480" y="2963880"/>
            <a:chExt cx="965160" cy="471600"/>
          </a:xfrm>
        </p:grpSpPr>
        <p:sp>
          <p:nvSpPr>
            <p:cNvPr id="432" name=""/>
            <p:cNvSpPr/>
            <p:nvPr/>
          </p:nvSpPr>
          <p:spPr>
            <a:xfrm flipH="1">
              <a:off x="694548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8916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45480" y="34354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66600" y="296388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393960" y="2176560"/>
            <a:ext cx="964080" cy="471240"/>
            <a:chOff x="6393960" y="2176560"/>
            <a:chExt cx="964080" cy="471240"/>
          </a:xfrm>
        </p:grpSpPr>
        <p:sp>
          <p:nvSpPr>
            <p:cNvPr id="437" name=""/>
            <p:cNvSpPr/>
            <p:nvPr/>
          </p:nvSpPr>
          <p:spPr>
            <a:xfrm flipH="1">
              <a:off x="6393960" y="2176560"/>
              <a:ext cx="320760" cy="4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36920" y="2176560"/>
              <a:ext cx="320760" cy="4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4320" y="26478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15080" y="21765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292720" y="3514680"/>
            <a:ext cx="31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0096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1192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336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240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72040" y="3475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13320" y="3475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156360" y="2647800"/>
            <a:ext cx="27612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227640" y="2647800"/>
            <a:ext cx="2746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7164000" y="2647800"/>
            <a:ext cx="2062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7289640" y="2647800"/>
            <a:ext cx="20664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877080" y="150768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4072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5500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02760" y="22557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4149720"/>
            <a:ext cx="770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*  a bijective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7704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 a bijective 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5661000"/>
            <a:ext cx="7704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*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 a bijective 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99760" y="148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35200" y="15368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274920" y="2328840"/>
            <a:ext cx="1944720" cy="576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2328840"/>
            <a:ext cx="936720" cy="576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63760" y="18446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300720" y="2662200"/>
            <a:ext cx="2746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C of Circuits with a Known CS 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pseudocode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1775160"/>
            <a:ext cx="799164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check if Spec(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) is topological (i.e. that its comm. graph is acycl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ol_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|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ol_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check isormophism of communication 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_isomorph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main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o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aint_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ist_quan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ijective_function_r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last subcircuits are functionally equival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ivalence_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lse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equival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19560" y="1341360"/>
            <a:ext cx="51933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plexity in Resolu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42920" y="1341360"/>
            <a:ext cx="741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size of the largest sub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k. We 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nularity of 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x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We 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granularity of 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16000" y="293364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dure we described 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number of 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on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ranula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3790800"/>
            <a:ext cx="698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onentialit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ecause one needs to compute the relation between outpu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heck if it specifies a bijective funci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6760" y="4959360"/>
            <a:ext cx="73659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the class of CNF formulas describing equivalence checking of circuits with a CS of granularity bounded by a const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mula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ve linear size resolution proo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C by  Deterministic Algorithm If  CS Is Unknow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42920" y="1700280"/>
            <a:ext cx="73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be solved by the following trivial algorithm. This algorithm is to generate resolvents of length no more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terals.  (If a resolvent becomes longer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iscard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3357720"/>
            <a:ext cx="7292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of this algorithm is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is the length o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though, this algorithm is polynomial  for a fix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s complexity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16000" y="4672080"/>
            <a:ext cx="720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plexity is due to the fact that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unknown, this algorithm just resolves all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an be resol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an We Do Better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1640" y="2637000"/>
            <a:ext cx="7272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formula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scribing equivalence checking of 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pecific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Finding a short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would mean fin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inding their CS of granular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hard. (Ideally, one should show that the problem of finding a CS of granular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P-complete or give some other formal estimate of the complexity of this proble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95480" y="1216080"/>
            <a:ext cx="7148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unlikely that there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fficient 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olving formula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is claim is based on the following two assum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1557360"/>
            <a:ext cx="7200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ower of  SAT-Solver Is Very Limited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1557360"/>
            <a:ext cx="66452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troduced a class of formulas where there is a sharp separation between the complexity of non-deterministic algorithm (that knows a CS of circu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 deterministic algorithm (that does know 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51577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ult emphasizes how limited the power of a “black-box” SAT solv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39840" y="3879720"/>
            <a:ext cx="67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3573360"/>
            <a:ext cx="6716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ly, this class of formulas is not a mathemtical curiousity. On the contrary, it is very important from a practical point of vie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king SAT-solver More “Intelligent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1700280"/>
            <a:ext cx="678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EC of circu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CS, giving a SAT-solver a little “tip” in the form of parti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circuits makes huge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87280" y="3573360"/>
            <a:ext cx="7220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tioners usually try to    build an efficient black-box SAT-solver  (that should  not exist unless         P = NP). A  more reasonable approach is to explore various possibilities to make a SAT-solver more receptive to information supplied by the user. This should make a SAT-solver more intelli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742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3200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42920" y="148428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wo Kinds of Complexit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421000"/>
            <a:ext cx="7848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test proofs for formula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onential 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geon-hole formulas for  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short proof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re is no algorithm to find them 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s not automatiz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proof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ing unsatisfiability of  CNFs  of a cla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 hard for two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365720"/>
            <a:ext cx="801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art,  we consider the second kind of complexity on the example of equivalence checking (EC).  We introduce an important class of EC formulas  that ha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rt resolution proo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ost probab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n not be found effici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deterministic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aking into Account Formula Specific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58920" y="1557360"/>
            <a:ext cx="700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AT-solvers are not very good at taking into accoun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mula specif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 example, if a formula has symmery, a resolution based  SAT-algorithm taking into account this symmetry looks ack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4221000"/>
            <a:ext cx="6696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SP of a formula is a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characteristic” of this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Ps can take into account formula specifics through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ustering of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 SSP of a formula can be viewed as proving unsatisfiabilit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in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3068640"/>
            <a:ext cx="6985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tion of a Stable Set of Points (SSP) is a promising way to make  use of particular properties of a CNF formula. SSPs have the follow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esting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1413000"/>
            <a:ext cx="286560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adimitriou 199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man, Kautz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819520"/>
            <a:ext cx="472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3860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7668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0092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3213000"/>
            <a:ext cx="36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…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5640" y="4005360"/>
            <a:ext cx="30956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 the closest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achable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ps at 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1512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26920" y="5229360"/>
            <a:ext cx="3024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falsify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as a “stepping st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00720" y="1341360"/>
            <a:ext cx="40320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satisfiable CNF formula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e a claus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…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 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…) be a complete assignment fals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tisfiable, there is a satisfying assign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in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by fli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closer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-Neighborhood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66760" y="1619280"/>
            <a:ext cx="671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clause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N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  be a point that falsi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5149800"/>
            <a:ext cx="6626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given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lsifying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set  of the points that are at Hamming distance 1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at satisf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87280" y="402264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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 called the 1-neighborhood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is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39840" y="2630520"/>
            <a:ext cx="678816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following three points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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flipping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trivial example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95480" y="1695600"/>
            <a:ext cx="7364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 of, say, a million variables that contains the following three clau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66760" y="3063960"/>
            <a:ext cx="750888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) be a point fals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 ..) be points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flipping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/o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4221000"/>
            <a:ext cx="73645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t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example cont.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09840" y="1844640"/>
            <a:ext cx="144360" cy="144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09840" y="3139920"/>
            <a:ext cx="144360" cy="144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06920" y="1844640"/>
            <a:ext cx="144360" cy="144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6920" y="3139920"/>
            <a:ext cx="144360" cy="144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81120" y="1987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4200" y="19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74600" y="2276640"/>
            <a:ext cx="55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0320" y="14130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3440" y="148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30440" y="1628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0360" y="292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85120" y="149400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85120" y="292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30440" y="299736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35520" y="1628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35520" y="299736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321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0" y="1989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15440" y="1341360"/>
            <a:ext cx="18378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3933720"/>
            <a:ext cx="4032360" cy="235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we try to reach a solutio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random w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rting from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sing the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s a “stepping stone” when we rea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at is next point is picked from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32360" y="4797360"/>
            <a:ext cx="388764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 random wal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ches a point other than those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n the formula is unsatis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27640" y="2637000"/>
            <a:ext cx="29163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ol-lowing function map-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to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definition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3232080"/>
            <a:ext cx="7345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an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4357800"/>
            <a:ext cx="7417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if and only if there is a set of poi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 set of points (SS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26920" y="1989000"/>
            <a:ext cx="73454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et of all poin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We will call a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ransport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r an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184464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Trivial Algorithm for Computing SSP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1989000"/>
            <a:ext cx="5688000" cy="4118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starting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i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 clauses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a solution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ick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. 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Nbhd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) \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Go to step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SPs for Random CNF Formula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3880" y="1547640"/>
          <a:ext cx="6096240" cy="4227840"/>
        </p:xfrm>
        <a:graphic>
          <a:graphicData uri="http://schemas.openxmlformats.org/drawingml/2006/table">
            <a:tbl>
              <a:tblPr/>
              <a:tblGrid>
                <a:gridCol w="2057400"/>
                <a:gridCol w="1905120"/>
                <a:gridCol w="2133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variabl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SSP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SSP| /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6,3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0,8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1844640"/>
            <a:ext cx="741672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peration between Deterministic and Non-Deteriministic SAT-Algorithm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19360"/>
            <a:ext cx="676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” of deterministic and non-deterministic algorithms for satisfiable formulas is obvious. There is a linear complexity non-deterministic algorithm while no efficient deterministic algorithm ex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P = N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3500280"/>
            <a:ext cx="676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satisfiable formulas such separation is not “trivial”. Many classes of formulas having short resolution proofs of unsatisfiability can also be easily solved by a deterministic algorithm. This applies for example to 2-CNF and Horn formu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puting SSPs more efficientl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1052640"/>
            <a:ext cx="7220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an SSP of 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point by point” is to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ef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few ways to “speed up” the computation of SSPs dramatically. One of them is to compute an SSP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usters of 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lusters may be represented implicitly.  So instead of an SSP one build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table set of cl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3933720"/>
            <a:ext cx="705636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ints are processed at once. Since a cluster may be represented implicitly, it may be of  exponentia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icking the “shape” of clusters one can input information about subtle structural properties o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an build complex hierarchies of stable objects like a stable set of clusters of clusters 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58920" y="34290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pproach has the follow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ree advant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Stable Set of Cluster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1341360"/>
            <a:ext cx="72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. 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transport funcit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union of 1-neighborhoo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over all the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23840" y="2565360"/>
            <a:ext cx="71485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(We will call sub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u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 set of cl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S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ansport func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5480" y="4430880"/>
            <a:ext cx="70768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any set of subse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vice versa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C , then the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uilding  SSCs efficientl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11120" y="1550880"/>
            <a:ext cx="6645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an SSC we gave above is too “loose”. To compute SSCs efficiently we impose three more infor- mal requirements on  clust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an S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84200" y="3206880"/>
            <a:ext cx="6283440" cy="305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o have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“compact           represent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an be handled effici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utation of  1-neighborh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hould be “easy” for every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exis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efficient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esting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o facilitate efficiency one may require, for example,  tha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16000" y="184464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ymmetric CNF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00000" y="1268280"/>
            <a:ext cx="7704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CNF formula. Denote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ermutation preser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.e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et  of all permutations unde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symmetric. This set form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00000" y="350028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ymmetric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set of all points that can be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ermuta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00000" y="2565360"/>
            <a:ext cx="73440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symmetric under the permutation sw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00" y="4724280"/>
            <a:ext cx="7344000" cy="17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definition of a group it follows that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ymmetric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not symmetric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o the set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artitioned into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sub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ng an orbit of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-Neighborhood of an Orbi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42920" y="1341360"/>
            <a:ext cx="7058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orbit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(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So checking whe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rivial. 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 for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16000" y="5160960"/>
            <a:ext cx="7201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equal to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hard to show tha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95480" y="2714760"/>
            <a:ext cx="7076880" cy="224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define a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ollowing way. Let us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n we pick the claus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*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qual to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as the valu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e clau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esides, it is not hard to sh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uilding SSC for Symmetric CNF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1500120"/>
            <a:ext cx="7274160" cy="4423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starting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i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 clauses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a solution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ick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Remov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very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Modif.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to a point o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if.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ifies an SSC. Stop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Go to step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ments to The Procedure For Building SS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455840" y="1628640"/>
            <a:ext cx="65008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dure above can be viewed as building an SSC.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presented by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is currently in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Tha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orbit of a poin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76360" y="3290760"/>
            <a:ext cx="6767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check if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symmetric to some other  point o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modified lines of paragraph 5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 make sure that we do not add a cluster (i.e. an orbit) that has been already vis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7120" y="5013360"/>
            <a:ext cx="650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47640" y="5018040"/>
            <a:ext cx="65739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equal to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hen the set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mpty.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SSC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SSP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re Orbits “Simple” Cluster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1341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its satisfy the three “simplicity” requirements to clusters we mentioned abov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dulo complexity of checking if two points are sym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87280" y="2421000"/>
            <a:ext cx="6932880" cy="448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asy to represent because it is specified by one point (i.e. 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rest of the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ymmetric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o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represented implici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asily computable. One just needs to compute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.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presen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bits whose union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ne needs to check if every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is symmetric to  a point from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  In general, this operation may have non-trivial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igeon-Hole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7120" y="2343240"/>
            <a:ext cx="5924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23840" y="133524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scribes the problem of alloca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s (pigeons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ers (holes). No two pigeons may share the same ho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422100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unsatisfiable. Haken showed that formul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ve only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ponential proofs in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16000" y="5157720"/>
            <a:ext cx="7128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ghly sym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consists  of all permuta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permutation of pigeons (respectively ho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42920" y="2421000"/>
            <a:ext cx="7508880" cy="174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Boolean variabl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equal to 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pigeon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hole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s of clauses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1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ing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pigeon has to be in at least one hole and clauses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s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ing that two pigeons may not share the same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SC for Pigeon-Hole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125360"/>
            <a:ext cx="77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hown that 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mula there is an SSC of 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 clusters. Some clusters have exponential size (so the corresponding SSP is exponential).  The seven points below specify the seven clusters for the 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686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686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686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686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735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735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735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735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784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784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784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784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688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688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88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688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737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737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37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37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786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786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786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786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976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976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976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976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025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025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025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2025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074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074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074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074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926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926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926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26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972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6972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972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972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021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021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021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021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928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928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928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928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974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974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974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974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023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023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023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023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398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398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398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398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447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447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447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447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496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496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496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496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449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398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398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398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398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447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447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447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447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496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496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496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496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93000" y="277812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14560" y="31179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14560" y="342252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14560" y="372744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14560" y="4032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451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45120" y="36511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739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78840" y="36511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16120" y="50227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1612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2104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68600" y="50227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7352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7844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68800" y="50227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7372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7864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68800" y="59371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clusions to Parts 1,2,3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87280" y="1557360"/>
            <a:ext cx="6500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of resolution based SAT-solvers has not been exausted. Search for  practical methods for finding short proofs may still bring surpri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AT-solver (or, more generally, a computer) most likely can not recover high-rank relations (like toggle equvialence of circuits).  So building SAT-solvers that are receptive to  structural information provided by the user is very import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sets of points  may provide a framework for building such receptive SAT-sol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Very Generic Reason to Study EC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0920" y="2290680"/>
            <a:ext cx="115236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290680"/>
            <a:ext cx="107964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33591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8840" y="33591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19360" y="33591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1200" y="3416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763640" y="183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70028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9760" y="17002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2290680"/>
            <a:ext cx="5745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880" y="23493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1819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4000" y="4811760"/>
            <a:ext cx="115236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6720" y="4811760"/>
            <a:ext cx="107964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8802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1920" y="588024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2440" y="588024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4280" y="59371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36720" y="4354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6520" y="42210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26480" y="436572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07280" y="4811760"/>
            <a:ext cx="5745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23520" y="4870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94560" y="43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03640" y="4946760"/>
            <a:ext cx="70632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9960" y="4946760"/>
            <a:ext cx="6606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8705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73560" y="58705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33760" y="58705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4280" y="59198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09960" y="455292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11640" y="4881600"/>
            <a:ext cx="4460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58040" y="4881600"/>
            <a:ext cx="4176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816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9640" y="581652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8160" y="581652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92360" y="5864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58040" y="44812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5456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9520" y="4797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989000"/>
            <a:ext cx="3837240" cy="20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represented as a 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of 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e latter being a constant 0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hard because they are very different “structurally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2560" y="1268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C is “simpler” than 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wo Practical Reasons for Studying E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700280"/>
            <a:ext cx="743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ternal” Equivalence Check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ombi-national circuits is a very important part of the design flow for electronic circuits. (For example, one may need to check if the original circuit is equivalent to one modified by a designer manually or optimized by a second party logic synthesis t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581360"/>
            <a:ext cx="772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nal” Equivalence Check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ircu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ptimized, for every logic synthesis transform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has to be a “proof” that the circuits before and after this transformation are functionally equi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iter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37400" y="1265400"/>
          <a:ext cx="1363680" cy="1552320"/>
        </p:xfrm>
        <a:graphic>
          <a:graphicData uri="http://schemas.openxmlformats.org/drawingml/2006/table">
            <a:tbl>
              <a:tblPr/>
              <a:tblGrid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400800" y="1409760"/>
            <a:ext cx="10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3960" y="1193760"/>
            <a:ext cx="109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7400" y="1265400"/>
            <a:ext cx="43164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54680" y="765000"/>
            <a:ext cx="97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88920" y="836640"/>
          <a:ext cx="471348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8920" y="836640"/>
                    <a:ext cx="4713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997000" y="1700280"/>
            <a:ext cx="142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357720"/>
            <a:ext cx="3529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rcuit on the left (calle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 m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atis-fiable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equi-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3:54:10Z</dcterms:created>
  <dc:creator>administrator</dc:creator>
  <dc:description/>
  <dc:language>en-US</dc:language>
  <cp:lastModifiedBy>Eugene Goldberg</cp:lastModifiedBy>
  <dcterms:modified xsi:type="dcterms:W3CDTF">2006-11-04T13:34:02Z</dcterms:modified>
  <cp:revision>1530</cp:revision>
  <dc:subject/>
  <dc:title>PowerPoint Presentation</dc:title>
</cp:coreProperties>
</file>